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221A-FDDB-45A2-9F18-910234ABA1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344F-B9CA-4C01-B906-81C11351B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478-B751-4DA9-B736-3699EFAE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B95-1BDC-4A97-8B1E-FF787B21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B83-0E1D-4054-9BB1-9A3787DE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7D7-4126-485D-999E-4043ED0D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622-21F7-451B-B982-5DE43927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0BB-D8BA-4DF4-8208-F054ACF2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ED7-B6AC-4761-8106-84D82854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550-8924-4484-B6A7-8240C90B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38C-59A7-4D13-B26D-6C8DB765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3F9-FB99-47B7-ADC6-7F8A8DEC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50B-976F-44E7-9594-589A3CC9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866-9B22-4D89-8844-8C28A09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CF0D-0AF5-41F2-BD54-C86FB5263C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7" descr="3f4e83528216f12c843524ff"/>
          <p:cNvPicPr/>
          <p:nvPr/>
        </p:nvPicPr>
        <p:blipFill>
          <a:blip r:embed="rId2"/>
          <a:stretch/>
        </p:blipFill>
        <p:spPr>
          <a:xfrm>
            <a:off x="9067680" y="0"/>
            <a:ext cx="76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9"/>
          <p:cNvSpPr txBox="1"/>
          <p:nvPr/>
        </p:nvSpPr>
        <p:spPr>
          <a:xfrm>
            <a:off x="1447920" y="2057400"/>
            <a:ext cx="556236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33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自然的语言</a:t>
            </a:r>
            <a:endParaRPr b="0" lang="en-US" sz="2800" spc="1" strike="noStrike">
              <a:ln w="9360">
                <a:solidFill>
                  <a:srgbClr val="ff33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28600" y="60948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北师大版三年级语文下册第九单元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百合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33520" y="3200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还有哪些大自然的语言告诉我们可能要下雨了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2193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85" name="Group 23"/>
          <p:cNvGrpSpPr/>
          <p:nvPr/>
        </p:nvGrpSpPr>
        <p:grpSpPr>
          <a:xfrm>
            <a:off x="1143000" y="4343400"/>
            <a:ext cx="3048120" cy="1724400"/>
            <a:chOff x="1143000" y="4343400"/>
            <a:chExt cx="3048120" cy="1724400"/>
          </a:xfrm>
        </p:grpSpPr>
        <p:sp>
          <p:nvSpPr>
            <p:cNvPr id="86" name="Text Box 14"/>
            <p:cNvSpPr/>
            <p:nvPr/>
          </p:nvSpPr>
          <p:spPr>
            <a:xfrm>
              <a:off x="1143000" y="548640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燕子低飞</a:t>
              </a:r>
              <a:endParaRPr b="0" lang="en-US" sz="32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pic>
          <p:nvPicPr>
            <p:cNvPr id="87" name="Picture 15" descr="yt162731416_P2"/>
            <p:cNvPicPr/>
            <p:nvPr/>
          </p:nvPicPr>
          <p:blipFill>
            <a:blip r:embed="rId3"/>
            <a:stretch/>
          </p:blipFill>
          <p:spPr>
            <a:xfrm>
              <a:off x="1143000" y="4343400"/>
              <a:ext cx="22096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30"/>
          <p:cNvGrpSpPr/>
          <p:nvPr/>
        </p:nvGrpSpPr>
        <p:grpSpPr>
          <a:xfrm>
            <a:off x="4267080" y="4343400"/>
            <a:ext cx="2895840" cy="1724400"/>
            <a:chOff x="4267080" y="4343400"/>
            <a:chExt cx="2895840" cy="1724400"/>
          </a:xfrm>
        </p:grpSpPr>
        <p:sp>
          <p:nvSpPr>
            <p:cNvPr id="89" name="Text Box 17"/>
            <p:cNvSpPr/>
            <p:nvPr/>
          </p:nvSpPr>
          <p:spPr>
            <a:xfrm>
              <a:off x="441972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西虹将雨</a:t>
              </a:r>
              <a:endParaRPr b="0" lang="en-US" sz="32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pic>
          <p:nvPicPr>
            <p:cNvPr id="90" name="Picture 18" descr="F2003080714471209254"/>
            <p:cNvPicPr/>
            <p:nvPr/>
          </p:nvPicPr>
          <p:blipFill>
            <a:blip r:embed="rId4"/>
            <a:stretch/>
          </p:blipFill>
          <p:spPr>
            <a:xfrm>
              <a:off x="4267080" y="4343400"/>
              <a:ext cx="216720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19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还有哪些大自然的语言预示着好天气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92" name="Group 38"/>
          <p:cNvGrpSpPr/>
          <p:nvPr/>
        </p:nvGrpSpPr>
        <p:grpSpPr>
          <a:xfrm>
            <a:off x="1066680" y="1295280"/>
            <a:ext cx="2743200" cy="1877040"/>
            <a:chOff x="1066680" y="1295280"/>
            <a:chExt cx="2743200" cy="1877040"/>
          </a:xfrm>
        </p:grpSpPr>
        <p:pic>
          <p:nvPicPr>
            <p:cNvPr id="93" name="Picture 21" descr="u=2146345066,725648236&amp;fm=0&amp;gp=0"/>
            <p:cNvPicPr/>
            <p:nvPr/>
          </p:nvPicPr>
          <p:blipFill>
            <a:blip r:embed="rId5"/>
            <a:stretch/>
          </p:blipFill>
          <p:spPr>
            <a:xfrm>
              <a:off x="1066680" y="1295280"/>
              <a:ext cx="2362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1143000" y="259092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99"/>
                  </a:solidFill>
                  <a:latin typeface="隶书"/>
                  <a:ea typeface="隶书"/>
                </a:rPr>
                <a:t>晚霞行千里</a:t>
              </a:r>
              <a:endParaRPr b="0" lang="en-US" sz="32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grpSp>
        <p:nvGrpSpPr>
          <p:cNvPr id="95" name="Group 31"/>
          <p:cNvGrpSpPr/>
          <p:nvPr/>
        </p:nvGrpSpPr>
        <p:grpSpPr>
          <a:xfrm>
            <a:off x="4191120" y="1295280"/>
            <a:ext cx="2895480" cy="1800720"/>
            <a:chOff x="4191120" y="1295280"/>
            <a:chExt cx="2895480" cy="1800720"/>
          </a:xfrm>
        </p:grpSpPr>
        <p:pic>
          <p:nvPicPr>
            <p:cNvPr id="96" name="Picture 26" descr="u=3312046760,1251061317&amp;fm=0&amp;gp=0"/>
            <p:cNvPicPr/>
            <p:nvPr/>
          </p:nvPicPr>
          <p:blipFill>
            <a:blip r:embed="rId6"/>
            <a:stretch/>
          </p:blipFill>
          <p:spPr>
            <a:xfrm>
              <a:off x="4191120" y="1295280"/>
              <a:ext cx="22096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28"/>
            <p:cNvSpPr/>
            <p:nvPr/>
          </p:nvSpPr>
          <p:spPr>
            <a:xfrm>
              <a:off x="43434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99"/>
                  </a:solidFill>
                  <a:latin typeface="Arial"/>
                  <a:ea typeface="楷体_GB2312"/>
                </a:rPr>
                <a:t>蜘蛛结网</a:t>
              </a:r>
              <a:endParaRPr b="0" lang="en-US" sz="32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930720" y="1676520"/>
            <a:ext cx="775440" cy="520560"/>
            <a:chOff x="6930720" y="1676520"/>
            <a:chExt cx="775440" cy="520560"/>
          </a:xfrm>
        </p:grpSpPr>
        <p:sp>
          <p:nvSpPr>
            <p:cNvPr id="99" name="Rectangle 32"/>
            <p:cNvSpPr/>
            <p:nvPr/>
          </p:nvSpPr>
          <p:spPr>
            <a:xfrm>
              <a:off x="6930720" y="1676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00" name="Rectangle 33"/>
            <p:cNvSpPr/>
            <p:nvPr/>
          </p:nvSpPr>
          <p:spPr>
            <a:xfrm>
              <a:off x="7311960" y="1676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6930720" y="4724280"/>
            <a:ext cx="775440" cy="520560"/>
            <a:chOff x="6930720" y="4724280"/>
            <a:chExt cx="775440" cy="520560"/>
          </a:xfrm>
        </p:grpSpPr>
        <p:sp>
          <p:nvSpPr>
            <p:cNvPr id="102" name="Rectangle 36"/>
            <p:cNvSpPr/>
            <p:nvPr/>
          </p:nvSpPr>
          <p:spPr>
            <a:xfrm>
              <a:off x="6930720" y="4724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7311960" y="4724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楷体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a6d25e21ec7f531f9922ed2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905120" y="83808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大树如果被砍倒，　　　　　　　　　　　你会把年轮发现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一年只长一圈，　　　　　　　　　　　　这是大自然的语言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05120" y="3429000"/>
            <a:ext cx="47242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如果钓到大鱼，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鱼鳞上也有圆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　　　　　　　　　　　　　一圈就是一岁，　　　　　　　　　　　　　　这又是大自然的语言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676520" y="5257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572000" y="8067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7c80"/>
                </a:solidFill>
                <a:latin typeface="Arial"/>
                <a:ea typeface="华文中宋"/>
              </a:rPr>
              <a:t>小鱼渐渐长成大鱼，鱼鳞上的圆圈逐渐增多。</a:t>
            </a:r>
            <a:r>
              <a:rPr b="0" lang="zh-CN" sz="3600" spc="-1" strike="noStrike">
                <a:solidFill>
                  <a:srgbClr val="ff7c80"/>
                </a:solidFill>
                <a:latin typeface="Arial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10" name="Picture 5" descr="SC20050901172009937"/>
          <p:cNvPicPr/>
          <p:nvPr/>
        </p:nvPicPr>
        <p:blipFill>
          <a:blip r:embed="rId3"/>
          <a:stretch/>
        </p:blipFill>
        <p:spPr>
          <a:xfrm>
            <a:off x="4648320" y="4495680"/>
            <a:ext cx="4167000" cy="20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y0018"/>
          <p:cNvPicPr/>
          <p:nvPr/>
        </p:nvPicPr>
        <p:blipFill>
          <a:blip r:embed="rId4"/>
          <a:stretch/>
        </p:blipFill>
        <p:spPr>
          <a:xfrm>
            <a:off x="4648320" y="2209680"/>
            <a:ext cx="4103640" cy="20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98"/>
          <p:cNvPicPr/>
          <p:nvPr/>
        </p:nvPicPr>
        <p:blipFill>
          <a:blip r:embed="rId5"/>
          <a:stretch/>
        </p:blipFill>
        <p:spPr>
          <a:xfrm>
            <a:off x="152280" y="2209680"/>
            <a:ext cx="3810240" cy="4343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0" y="95904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7c80"/>
                </a:solidFill>
                <a:latin typeface="Arial"/>
                <a:ea typeface="华文中宋"/>
              </a:rPr>
              <a:t>大树的年轮有奥秘，   一圈就是一春秋。</a:t>
            </a:r>
            <a:r>
              <a:rPr b="0" lang="zh-CN" sz="3600" spc="-1" strike="noStrike">
                <a:solidFill>
                  <a:srgbClr val="ff7c80"/>
                </a:solidFill>
                <a:latin typeface="Arial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4648320" y="1143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52480" y="685800"/>
            <a:ext cx="48006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圈</a:t>
            </a:r>
            <a:endParaRPr b="1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a6d25e21ec7f531f9922ed2b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905120" y="83808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大自然把“三叶虫”化石，　　　　　　　　　　　嵌在喜马拉雅山脉。　　　　　　　　　　这是在告诉人们，　　　　　　　　　　　　那儿曾是汪洋一片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905120" y="34290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76520" y="5257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21" name="Picture 7" descr="1141077363_2104554791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14400" y="312408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918720" y="144792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"/>
              </a:rPr>
              <a:t>三叶虫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25" name="图片 9" descr="u=2704536323,909615698&amp;fm=52&amp;gp=0.jpg"/>
          <p:cNvPicPr/>
          <p:nvPr/>
        </p:nvPicPr>
        <p:blipFill>
          <a:blip r:embed="rId3"/>
          <a:stretch/>
        </p:blipFill>
        <p:spPr>
          <a:xfrm>
            <a:off x="1981080" y="762120"/>
            <a:ext cx="495324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20065665957396"/>
          <p:cNvPicPr/>
          <p:nvPr/>
        </p:nvPicPr>
        <p:blipFill>
          <a:blip r:embed="rId3"/>
          <a:stretch/>
        </p:blipFill>
        <p:spPr>
          <a:xfrm>
            <a:off x="2438280" y="152280"/>
            <a:ext cx="4114800" cy="3068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914400" y="312408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29" name="Picture 7" descr="1141077363_2104554791"/>
          <p:cNvPicPr/>
          <p:nvPr/>
        </p:nvPicPr>
        <p:blipFill>
          <a:blip r:embed="rId4"/>
          <a:stretch/>
        </p:blipFill>
        <p:spPr>
          <a:xfrm>
            <a:off x="2286000" y="3657600"/>
            <a:ext cx="4343400" cy="2906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1"/>
          <p:cNvSpPr/>
          <p:nvPr/>
        </p:nvSpPr>
        <p:spPr>
          <a:xfrm>
            <a:off x="918720" y="144792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"/>
              </a:rPr>
              <a:t>曾经的海洋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7243560" y="1371600"/>
            <a:ext cx="729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"/>
              </a:rPr>
              <a:t>如今成山脉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533520" y="251532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楷体"/>
              </a:rPr>
              <a:t>    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三叶虫化石，也叫蝙蝠石，学名叫三叶虫化石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    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三叶虫体形扁宽，背面正中突起，两侧较扁平。背上有两条纵沟，把身体纵分为三叶，因此得名。三叶虫是生活在</a:t>
            </a:r>
            <a:r>
              <a:rPr b="0" lang="en-US" sz="2800" spc="-1" strike="noStrike">
                <a:solidFill>
                  <a:srgbClr val="9900ff"/>
                </a:solidFill>
                <a:latin typeface="楷体"/>
              </a:rPr>
              <a:t>6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亿年到</a:t>
            </a:r>
            <a:r>
              <a:rPr b="0" lang="en-US" sz="2800" spc="-1" strike="noStrike">
                <a:solidFill>
                  <a:srgbClr val="9900ff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亿多年前的古老节肢动物，在当时几乎占据了整个海洋，是古生代的一霸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     </a:t>
            </a:r>
            <a:r>
              <a:rPr b="0" lang="zh-CN" sz="2800" spc="-1" strike="noStrike">
                <a:solidFill>
                  <a:srgbClr val="9900ff"/>
                </a:solidFill>
                <a:latin typeface="楷体"/>
              </a:rPr>
              <a:t>三叶虫形态多样，大小不一。 全世界已发现的三叶虫化石约四千种，我国是发现三叶虫化石最多的国家之一，有一千多种 。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90520" y="636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华文中宋"/>
              </a:rPr>
              <a:t>三叶虫化石简介：</a:t>
            </a:r>
            <a:endParaRPr b="0" lang="en-US" sz="36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5" descr="untitled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6"/>
          <p:cNvSpPr/>
          <p:nvPr/>
        </p:nvSpPr>
        <p:spPr>
          <a:xfrm>
            <a:off x="1676520" y="533520"/>
            <a:ext cx="5181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大自然的语言啊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真是妙不可言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不爱学习的人看不懂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只有勤于思考的人才能发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7" name="Line 69"/>
          <p:cNvSpPr/>
          <p:nvPr/>
        </p:nvSpPr>
        <p:spPr>
          <a:xfrm>
            <a:off x="2666880" y="213372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5" descr="f5fbb17588597056b151b976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762120" y="1676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请你模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2—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小节当中的任何两个小节，成对地仿写两节小诗诗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523880" y="396252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380880" y="228600"/>
            <a:ext cx="2971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快乐练笔</a:t>
            </a:r>
            <a:endParaRPr b="0" lang="en-US" sz="2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533520" y="914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你还知道哪些大自然的语言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2819520"/>
            <a:ext cx="701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鱼跳水，有雨来。    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燕子低飞要落雨。    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蚯蚓爬上路，雨水乱如麻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麻雀囤食要落雪。      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雨中闻蝉叫，预告晴天到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525c3036c91ec0765ab5f5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057400" y="1523880"/>
            <a:ext cx="3505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别以为人才说话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大自然也有语言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这语言到处都有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　　　　　　　　　　　　　　睁开眼就能看见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3" name="Line 4"/>
          <p:cNvSpPr/>
          <p:nvPr/>
        </p:nvSpPr>
        <p:spPr>
          <a:xfrm>
            <a:off x="2209680" y="304812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课文探究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5" descr="f5fbb17588597056b151b9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47920" y="990720"/>
            <a:ext cx="7696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中宋"/>
              </a:rPr>
              <a:t>鱼跳水，有雨来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中宋"/>
              </a:rPr>
              <a:t>燕子低飞要落雨。       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中宋"/>
              </a:rPr>
              <a:t>蚯蚓爬上路，雨水乱如麻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中宋"/>
              </a:rPr>
              <a:t>麻雀囤食要落雪。      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中宋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华文中宋"/>
              </a:rPr>
              <a:t>雨中闻蝉叫，预告晴天到。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523880" y="3962520"/>
            <a:ext cx="30481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拓展运用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7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49" name="WordArt 3"/>
          <p:cNvSpPr txBox="1"/>
          <p:nvPr/>
        </p:nvSpPr>
        <p:spPr>
          <a:xfrm>
            <a:off x="1371600" y="1905120"/>
            <a:ext cx="6553080" cy="26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99ccff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99cc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50" name="钢琴曲.mp3" descr=""/>
          <p:cNvPicPr/>
          <p:nvPr/>
        </p:nvPicPr>
        <p:blipFill>
          <a:blip r:embed="rId3"/>
          <a:stretch/>
        </p:blipFill>
        <p:spPr>
          <a:xfrm>
            <a:off x="7848720" y="3200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3058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f98256f8bb571b6421694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读课文，读准字音，读通顺句子。遇到生字多读几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共有几个小节？分为几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自然的语言有哪些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中讲了哪几种大自然的语言？分别告诉了我们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380880" y="22860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自读要求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c05511f51587bc6c730eecf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62120" y="1143000"/>
            <a:ext cx="396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看那天上的白云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这就是大自然的语言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白云飘得高高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明天准是晴天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648320" y="1143000"/>
            <a:ext cx="396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看那地上的蚂蚁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这也是大自然的语言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蚂蚁忙着搬家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出门要带雨伞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457200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白云飘得高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明天是晴天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876920" y="45720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蚂蚁搬家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天将下雨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a6d25e21ec7f531f9922ed2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905120" y="8380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蝌蚪在水中游泳，　　　　　　　　　　　不就像黑色的“逗点”？　　　　　　　　　　　大自然在水面写着：　　　　　　　　　　　　春天来到人间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905120" y="2743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蝌蚪游泳  春天来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905120" y="3429000"/>
            <a:ext cx="4724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大雁在编队南飞，　　　　　　　　　　　　　不就像“省略号”一串？　　　　　　　　　　　　　　大自然在蓝天上写着：　　　　　　　　　　　　　　秋天就在眼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76520" y="5257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</a:rPr>
              <a:t>大雁南飞  秋天到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200657204245817DSC00971"/>
          <p:cNvPicPr/>
          <p:nvPr/>
        </p:nvPicPr>
        <p:blipFill>
          <a:blip r:embed="rId3"/>
          <a:stretch/>
        </p:blipFill>
        <p:spPr>
          <a:xfrm>
            <a:off x="0" y="0"/>
            <a:ext cx="4495680" cy="3497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029200" y="51840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蝌蚪在水中游泳，　　　　　　　　　　　不就像黑色的“逗点”？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"/>
              </a:rPr>
              <a:t>蝌蚪游泳，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春天来到人间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" name="Picture 7" descr="20071031162749607"/>
          <p:cNvPicPr/>
          <p:nvPr/>
        </p:nvPicPr>
        <p:blipFill>
          <a:blip r:embed="rId4"/>
          <a:stretch/>
        </p:blipFill>
        <p:spPr>
          <a:xfrm>
            <a:off x="4495680" y="3530520"/>
            <a:ext cx="4648320" cy="3327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304920" y="384084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大雁在编队南飞，　　　　　　　　　　　　　不就像“省略号”一串？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"/>
              </a:rPr>
              <a:t>大雁南飞，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秋天就在眼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019"/>
          <p:cNvPicPr/>
          <p:nvPr/>
        </p:nvPicPr>
        <p:blipFill>
          <a:blip r:embed="rId3"/>
          <a:stretch/>
        </p:blipFill>
        <p:spPr>
          <a:xfrm>
            <a:off x="152280" y="228600"/>
            <a:ext cx="397836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4343400" y="114300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看那天上的白云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这就是大自然的语言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白云飘得高高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明天准是晴天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85bOOOPIC2f"/>
          <p:cNvPicPr/>
          <p:nvPr/>
        </p:nvPicPr>
        <p:blipFill>
          <a:blip r:embed="rId3"/>
          <a:stretch/>
        </p:blipFill>
        <p:spPr>
          <a:xfrm>
            <a:off x="609480" y="380880"/>
            <a:ext cx="3733920" cy="4953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648320" y="1143000"/>
            <a:ext cx="396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你看那地上的蚂蚁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这也是大自然的语言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蚂蚁忙着搬家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　　　　　　　　　　　　出门要带雨伞。 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32f99456a96233523b2935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648320" y="114300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47920" y="1752480"/>
            <a:ext cx="617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搬家</a:t>
            </a:r>
            <a:endParaRPr b="1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3-04-24T16:16:59Z</dcterms:modified>
  <cp:revision>1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